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F2D-A7CD-4630-A818-5AA9C4E6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2CA-B395-40F3-AECF-1CF9A3AA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6C7-DBA8-4284-A6DC-CC768C85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CA3-1101-4082-98F9-8A7FE992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D0E-B042-4FB0-A9BF-E0FA87D1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91B-9788-44A6-A420-3A193680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E81-CB2E-45B1-8247-C976566C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11E-8018-40E0-B6A2-C7C99740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502-C0A4-4247-A2CF-38FF9049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3FC-BAE5-481B-981F-768D9888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DCF-239C-49B1-AED4-CF704933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A9D-0D61-438E-A840-BA51A8A3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d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D606-0158-4887-8C48-E4C2A00BF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Соціально-освітні про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88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ранспортне забезпечення позашкільних навчальних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навчально-виховного процесу за дистанційною формою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є висвітлення заходів у межах проектів у ЗМ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 сайті ОЦПО та Р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3572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88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нових соціально-освітніх проектів 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а впровадження педагогічних технологій організації навчально-творчої діяльності дітей та учнівської молоді у сфері вільного ча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4071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462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конкурсу на кращий проект з патріотичного виховання «Я –  українець і цим пишаю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обласного військово-патріотичного табору «Патрі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компетентності педагогів ПНЗ щодо соціалізації особистості, її творчого розвитку, виховання патріот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права кожної дитини області на здобуття якісної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857240" y="428616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Виховання лідерських якостей особис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805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ного підходу до виховання юних лідерів як цілісного проц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876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92880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144864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демократичного та особистісно орієнтованого підходу щодо організації роботи органів учнівського самоврядування, активізація її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ховання лідерських якостей, активної життєвої позиції учнівської мол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кращого досвіду роботи органів учнівського самоврядування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старшокласників до безпосередньої участі у формуванні та реалізації молодіжної політики в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вихованню демократичної культури підростаючого поко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3577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40510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діяльності обласної, районних і міських рад старшокласників Сум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і навчання лідерів учнівського самоврядування в „Школі ліде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роботи молодіжного самоврядування у ЗМІ, веб-сайтах ПН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алізація поставлених завдань сприятиме розвитку в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ного і зрілого лід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ичок соціального спілкування, взаємодії, співробіт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аналізувати соціальні ситуації й виробляти оптимальні програми поведінки в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взаємодіяти із суспільством та його окремими інститутами в повсякденному житті, орієнтуватися в суспільних явищах і проце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c8"/>
                </a:solidFill>
                <a:latin typeface="Bookman Old Style"/>
              </a:rPr>
              <a:t>Програмне забезпе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967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програм з позашкільної освіти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Безпідставне розроблення навчальних програм при наявності тип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відповідність мети, завдань програм їх змісту, очікуваним 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своєчасність здійснення процедури перезатвердження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643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29775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існуючих, розроблення н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Експертиза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навчально-методичних збірників дидактичних матеріалів до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ип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короткострокових навчальних-ознайомч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4929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0" y="5447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 регіонального банку даних навчальних програм з позашкільної осві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дання збірника навчальних програм з позашкільної освіти для застосування в ПНЗ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17604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8"/>
                </a:solidFill>
                <a:latin typeface="Bookman Old Style"/>
              </a:rPr>
              <a:t>Підвищення фахової компетентності педагог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856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виток позашкільних навчальних закладів як цілісних соціально-педагогічн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інноваційного розвитку системи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, узагальн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229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чний супровід інноваційних проце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науково-методологічних, інформаційних інвестицій для реалізації програм розвитку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ідвищенню професійно-творчого рівня педагог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загальносистемного розвитку позашкільної освіти в регіо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6432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140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истематизація методичної і самоосвітньої діяль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методико-педагогічн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бота методичних об’єднань і творчих груп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методичної роботи ПНЗ регіону за напрямам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виховного, розвивального та соціалізуючого потенціалу сучасного позашкільного навчального закл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ирення педагогічних ідей, науково-методичних, організаційно-педагогічних і методичних надбань педагогічних колективів П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матеріалів з актуальних науково-методичн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Гуманітарний, оздоро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784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ан матеріально-технічного та методико-дидакти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психолого-педагогічних знань батьків щодо виховання і розвитку ди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71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0" y="1928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різноманітнення напрямів, форм і методів надання освітніх послуг дітям старшого дошкільного в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патріотичної самосвідом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професійного рівня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силення психолого-педагогічної допомоги род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батьків і спонсорських організацій до зміцнення матеріально-технічної та дидактичної б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4500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шкіл (студій, об’єдн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шкіл відповідального батьківства, родинних клубів, залучення до участі в освітньому проек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глиблення психолого-педагогічних знань батьків, формування ціннісних орієнтацій сім’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 професійної  майстер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Еколого-натураліс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863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 діяльності гуртків екологічного, біологічного, аграрного профілів за трьома навчально-організаційними рів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вищими навча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повідність методичних матеріалів педагогів вимогам положень про конкурсні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ко-педагогічні за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0" y="271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ук, розвиток форм соціального партнерства, співпраці з профі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рівня професійно-творчої компетентності педагогів шляхом здійснення колективної та індивідуальної інновацій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0" y="45705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Долучення до міжнародної освітньої програми </a:t>
            </a: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GLOBE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, впровадження мультимедійного навчального комплексу «Зелений па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часть педагогів у роботі профільних методичних об’єднань педагогів, семінарах, практикумах, вебінарах різних організаційних рів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а участь у профільних міжнародних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конкурентноспроможних різнопрофільних Т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Художньо-есте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714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системного підходу в організації навчально-виховного проц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урізноманітнення форм і методів діяльності творчих об’єднань, спрямованих на підвищення фахової компетентн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214308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0" y="2665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дитячих творчих колективів у заходах районного, міського, обласного рів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бір перспективного репертуару щодо формування національно-патріотичної свідомості дітей та учнівської моло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дійснення моніторингу діяльності гуртків і творчих об’єд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92904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460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езентація діяльності гуртків і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досвіду роботи керівників ТО – учасників обласного етапу Всеукраїнського конкурсу майстерності педагогічних працівників позашкільних навчальних закладів «Джерело творчос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сідання творчих груп педагогів за напрямами навчально-творч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Фізкультурно-спортив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723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спортивно-туристського напряму в позашкільних навчальних закладах деяких міст та районів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гнорування участі команд міст, районів у обласних туристсько-спортивних зах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умов для тренувань з туризму у зимовий період, а саме – обладнаної спеціалізованої спортивної 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розроблення навчальних програм фізкультурно-спортив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714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146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 навчальних програм фізкультурно-спортивного і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дальший розвиток похід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42148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691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штування спеціалізованих спортивних залів у базових навчальних закл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навчально-тренувальних зборів і методико-педагогічних заходів у районах з метою активізації спортивно-туристської роботи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війти у десятку кращих у всеукраїнському рейтингу обласних позашкільних навчальних закладів України за спортивно-туристським напрямом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712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Науково-техні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0" y="8953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корочення кількості гуртків науково-технічного напряму, зокрема спортивно-технічного профі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за науково-технічним напрямом у позашкільних навчальних закладах області, зокрема гуртків робототехніки, електроніки,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0004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178596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25768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ереження мережі гуртків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нових напрямків гурткової роботи, зокрема робототехніка, електроніка та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керівників гурткової роботи з числа колишніх вихован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929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0" y="43498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та проведення профільних семінарів-практику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творчих груп над проблемою «Шляхи вдосконалення роботи гуртків спортивно-технічних профіл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профільних майстер-клас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ільшення кількості гуртків спортивно-технічного профілю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інформаційно-комунікативних технологі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рішення кадрових питань за рахунок залучення кваліфікованих спеціалістів-практиків до споріднених видів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Дослідницько-експерименталь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579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ї форми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роботи в системі МАН  у В.-Писарівському, Буринському, Кролевецькому, Л.-Долинському, Сумському, Шосткинському, Ямпільському р-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альний підхід до підготовки та проведення І етапу Всеукраїнського конкурсу-захисту науково-дослідницьких робіт учнів-член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на всеукраїнському рівні Положення про наукові товариства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288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0" y="229536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учнівської молоді із сільської місцевості до науково-дослідницької діяльності в системі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в обласних, всеукраїнських, міжнародних конкурсних заходах слухач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го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роботи наукових товариств учнів та міських малих академій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едагогічне управління пошуково-дослідницькою діяльністю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42994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соціального блоку в інтернет-мережі «ІnfoМАН.u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on-line лекцій молодими вченими, дійсними слухачами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громадською організацією “Асоціація випускників МА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форм організаційно-масов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щодо формування в учнівської молоді інтересу до винахідницької, дослідницької, конструкторської діяльності, залучення старшокласників до навчання в секціях за науково-технічним напря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соціально-освітніх проектів «Відкрий таємниці минулого разом з археологією!», «У пошуках наукових скарб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кращення рейтингових показ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8"/>
                </a:solidFill>
                <a:latin typeface="Bookman Old Style"/>
              </a:rPr>
              <a:t>Соціально-реабілітацій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858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23% комплексних позашкільних навчальних закладів області мають низький рівень результативності участі в обласних та всеукраїнських заходах за напрямом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залучення дітей та учнівської молоді до вивчення, відродження та популяризації регіональних народних реме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00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27158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и професійно-творчої взаємодії та партнерства у профільному педагогічному соціумі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перспективного педагогічного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системи методичної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рофільних навчальних мето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07196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роботи обласного виїзного колегіуму творчих педагогів з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ект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освітньо-мистецької вітальн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«Вито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перспективного педагогічного досвіду на сайті закладу та в інформаційно-методичному збірнику «Позашкільна освіта Сумщини: регіональний асп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ість участі вихованців області у заходах всеукраїнського рівня складає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Туристсько-краєзна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57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6494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гуртків військово-патріотичного спрям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розвитку екскурсійної діяльності, походів, експедицій,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залучення дітей та молоді до вивчення історії козацтва та українських військових тради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7859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215244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ізація роботи щодо патріотичного виховання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одальшому розвитку краєзнавчої та пошуково-дослідницьк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ошукової та просвітницької роботи музеїв навчальних закладів, пропаганда кращого досвіду їх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паганда туристичних і екскурсійних можливостей рідного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нових педагогічних технологій навчання і виховання учнів засобами туризму, краєзнавства та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6432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42181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е методичне об</a:t>
            </a:r>
            <a:r>
              <a:rPr b="0" lang="ru-RU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’</a:t>
            </a: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єднання керівників гуртків туристсько-краєзнавч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чально-виховні проекти «Стежками Слобожанського краю», «Шляхами подвигу і слави», «Музей іде до школ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их експедицій «Моя Батьківщина – Україна», «Історія міст і сіл України», «Мій рідн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ого зльоту юних туристів-краєзнавців, дитячо-юнацької військово-патріотичної гри «Сокіл» («Джур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а краєзнавча конференція «У світі краєзнавчих відкриттів», зліт пошукових загонів патріотичного спрямування «Памятати. Відродити. Зберег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50:03Z</dcterms:created>
  <dc:creator>Center</dc:creator>
  <dc:description/>
  <dc:language>en-US</dc:language>
  <cp:lastModifiedBy>Galina</cp:lastModifiedBy>
  <dcterms:modified xsi:type="dcterms:W3CDTF">2014-10-10T05:25:37Z</dcterms:modified>
  <cp:revision>478</cp:revision>
  <dc:subject/>
  <dc:title>Слайд 1</dc:title>
</cp:coreProperties>
</file>